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F94B-F713-49B1-951E-73B2FAEC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D279-23D2-4579-8561-1BC43EE8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BE9-A768-4341-84FB-D8599557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9E1D-3A56-484E-8CB9-CE996570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5CE5-32DF-461A-9126-962617B3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AF0-E378-4BE6-AC77-84DCD57F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75EA-0172-4E52-9B45-3BBBF1C4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0B5-4743-474F-885E-671C8C56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C67A-5B1F-4E9D-ACC1-63EA7E8F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19A-603C-4472-92DE-DFD578EA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B7B-D0F0-4097-BAE7-A5776458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348-8BDD-4AAA-ABD8-5A895CB2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7AAE-3AA7-4AC6-AE89-BD90781DB1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14360" y="762120"/>
            <a:ext cx="82422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еживая стыд, человек опускает или отворачивает голову, прячет взгляд, прикрывает глаза и заливается стыдливым румянц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лишком откровенные, слишком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интенсивн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слишком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част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проявле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тыда свидетельствуют о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социальном неблагополучи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ндивид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ящийся человек чувствует свою общую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остоятельность, некомпетен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забывает слова, делает неверные движения, нередко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заика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тановится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уклюжи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трашно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гримаснича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71680" y="1499760"/>
            <a:ext cx="81151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 кажется себ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аленьким, беспомощным, скованным, эмоционально расстроенным, глупым, никуда не годны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т. 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 сопровождается временной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пособностью мыслить логично и эффектив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нередко и ощущением неудачи, пораж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стыженный человек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 в состоянии выразить словам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и пережи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е стыда возможно лишь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а фоне эмоциональной связ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другим человеком, причем с таким, чье мнение и чьи чувства имеют особую ц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ы избежать сты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утвержд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е стыда мож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ст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ичи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ереживани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ругих эмоц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наоборот -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ереж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екоторых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эмоци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послужи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ичиной сты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Ви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дна из базовых эмоций. Связана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оответствием ожидания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и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Чем ближ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м человек, перед которым вы провинились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тем сильне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ше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ереж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и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Мим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опровождающая переживание вины,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оль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ыразитель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 по одному внешнему виду человека определить, чувствует он за собой вину или н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7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осылки развития эмоции ви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ятие общих моральных ц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нализация этих ц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ность к самокрити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мин «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 введен в психологию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.Титчене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обобщившим развивавшиеся в философской традиции идеи о симпатии с теориями вчувствования Э.Клиффорда и Т.Липп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моция вины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связа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осознанием факта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оступка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едательст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бственных взглядов и убежд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Также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безответственным поступк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чиной могут стать поступки, которы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тивореча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моральным, этическим или религиозным норма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Функ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моции вины заключается в том, что она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стимулиру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еловека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исправить ситуац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осстановить нормальный ход вещ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учший способ противостоять переживанию вины - жить в ладу со своей совест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на играет ключевую роль в процессе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звития личной и социальной ответств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 процессе становления сове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ереживания вины характерны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ысокая степень напряж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умеренная импульсив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снижение увер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себ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543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т англ. вчувствование) – специфическая система отражения партнеров по взаимодейств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сихологической литератур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рактуется как способность входить в состояния другого, как </a:t>
            </a:r>
            <a:r>
              <a:rPr b="0" lang="ru-RU" sz="2800" spc="-1" strike="noStrike" u="sng">
                <a:solidFill>
                  <a:srgbClr val="a9432b"/>
                </a:solidFill>
                <a:uFillTx/>
                <a:latin typeface="Times New Roman"/>
              </a:rPr>
              <a:t>сопереживание и сочувствие</a:t>
            </a:r>
            <a:r>
              <a:rPr b="0" lang="ru-RU" sz="2800" spc="-1" strike="noStrike">
                <a:solidFill>
                  <a:srgbClr val="a9432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снов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мпатии составля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эмоциональная отзывчивос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интуи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но при этом значительную роль игра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зу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циональное восприятие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шевленных объе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обходим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эмпатии возникает в тех случаях, когда надо выявить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онять, предвосхити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дивидуальные особенности другого и затем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воздействов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него в нужном направле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71360" y="1571760"/>
            <a:ext cx="7615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зличают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эмоциональ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основанную на механизмах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роек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и подражания реакциям другого человека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когнитив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базирующуюся н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интеллектуальных процессах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(сравнение, аналогия и т. п.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предикатив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проявляющуюся как способность человек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редсказывать реакции другого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конкретных ситуациях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28800" y="1856880"/>
            <a:ext cx="7758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стичь причины и следствия самопроявлений другого означает понять, почему, когда, для чего, с кем (чем) о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делает, говорит, думает, воспринимает, запоминает, вспоминае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чет подумать, сказать, сдела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являет свои интересы, потребности, способ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543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прогнозировать поведение другого означает понять, как, когда, почему, с какой целью о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делает, скажет, подумает по данному поводу; сможет реализовать свои мотивы, желания, потребн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устит или не допустит определенные ошиб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Сты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— отрицательно окрашенное чувство, объектом которого является какой-либо поступок или качество субъек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 связан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ощущением социальной неприемлемост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го, за что стыд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3T10:33:18Z</dcterms:modified>
  <cp:revision>10</cp:revision>
  <dc:subject/>
  <dc:title>Эмоции эмпатии, стыда и вины как эмоции л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c0d0000000000010250600207f5200358026400</vt:lpwstr>
  </property>
</Properties>
</file>